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7661-9CA1-4B2B-9FDF-619C9AF20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1689-C75F-4148-B579-44A19ADFF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CFEF-EA48-4B0B-9838-3EDABD98D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7247-1614-4937-B8DF-D795E96A9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9D23-0810-41F2-9CC7-7299F6D37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6D82-3EB0-4F28-9B0B-9ED56DB96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9883-5B45-4E34-98F1-AC2BF5D89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A66C-BF98-430E-BBBD-E6F0FE4B5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E4D4-E937-465B-B27E-D8DB58A83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0667-72B4-410C-A56C-39E7E2492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5148-E645-4D11-B738-1BE1A92D0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2015-E1B3-453B-93A1-941530F2C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EACD0-C8FC-4198-B770-DD77F6E0FD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0T11:54:09Z</dcterms:created>
  <dc:creator/>
  <dc:description/>
  <dc:language>en-US</dc:language>
  <cp:lastModifiedBy>Alexey Zhilin</cp:lastModifiedBy>
  <dcterms:modified xsi:type="dcterms:W3CDTF">2009-01-26T12:07:37Z</dcterms:modified>
  <cp:revision>7</cp:revision>
  <dc:subject/>
  <dc:title>Slide 1</dc:title>
</cp:coreProperties>
</file>