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AE142-4104-4CA9-B528-43BA6091F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3C7E1-E5C0-4C08-863D-09EBD7026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303F8-8C17-4814-93F1-3BD3A8AB6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CB4FD-B9C9-453E-95C0-343EA3C7F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9A8C2-95EB-4E7C-BF25-337D5F62A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1333C-0900-4A92-805B-28D9ADC6E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3700A-6CCB-45CB-876C-CE9AEAAF5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ED052-C46E-4F7B-866E-0A7B531C0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BD361-3373-4C3B-9586-BFE14BCA3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06F4A-4335-4797-BA4B-4C45AF9DE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B80AD-F3B4-47E5-AA78-B6893D3D3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28956-50BA-4527-A93D-37B6C7CC4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60AC2-FA70-40A9-97E4-35AD101F06C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11:49:47Z</dcterms:created>
  <dc:creator/>
  <dc:description/>
  <dc:language>en-US</dc:language>
  <cp:lastModifiedBy>Alexey Zhilin</cp:lastModifiedBy>
  <dcterms:modified xsi:type="dcterms:W3CDTF">2009-01-26T12:06:22Z</dcterms:modified>
  <cp:revision>7</cp:revision>
  <dc:subject/>
  <dc:title>Slide 1</dc:title>
</cp:coreProperties>
</file>