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833-A4E2-4BA1-8414-E6F2A71F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F29-B9E1-452C-B6D0-FA745BA5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37DA-35F7-4B98-BFCF-ABD794E3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FF9-2675-49FE-B673-CF3E6F7E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C99F-AC20-4C2D-B30D-72FD0023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7BB0-2CC4-4011-93CE-7457573F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29DB-F2A9-42D8-8767-4E9C1AE3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0103-18E1-4C66-AB6A-720D4BAA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C89A-C744-4D04-A19F-542ABE01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67A9-A577-4CF1-98C1-7C55CBFF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8A9D-CCA8-46FF-8280-E7B1CE26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C05-DDEF-485F-9BDC-A75987FF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354F-4772-45A7-A02D-9310255F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4963-F31F-483A-B686-7928FC1D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D68D-70BE-4199-B9A3-8FD7C21D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6D41-DC3C-4921-B23A-F443A6EE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3981-EDE0-4D85-A659-E363AA28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1DDB7-BFD6-4E96-8CC7-7603AFF8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659CE-6759-464C-A9FD-5746C730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1748E-5E87-483D-B92B-18C6AC5B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FB323-C4D5-4003-921C-BE841568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26BDD-DB1A-4BF3-A679-102020B3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3EF-51B3-4514-9415-2E5BD849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2EF65-A3B5-4D5A-A119-9FF19284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E877B-1499-4010-B9EB-8E2F9F41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BCE93-DAA3-4F37-8FA1-F17246AD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D7690-48D0-4FE3-BF61-3B01F21F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45CA3-E45C-4649-9DE9-C57D230D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73FCB-7C3C-4545-9730-CEF75B48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713B9-1933-4354-94F5-4DF48525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992A7-37BE-40D2-9ADE-ECC04802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C8002-E4A9-4855-98A1-50D55608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2B321-BFD7-4E83-9B44-8F3D1970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84B-E115-4F2D-A637-30836EF3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DE9A8-5DD1-45EC-A2DC-95491498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1C528-D1B9-4664-BE49-E03A9E1F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E0861-6B3D-466C-A118-F94DC65C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7DB1E-3562-4582-9C4A-1B7ED00F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60F10-0FB7-4B26-8FBC-420042D9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EB8EF-EA46-4117-9FB5-60F46F4E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6C2EF-1123-447E-86EC-8E230F54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63521-3B2B-441F-AFD1-7A0DA696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ACD37-9FAB-443B-A85D-D6BDC9C7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F711-5D34-4E9B-B5B4-34135082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2DF5-7A8E-4D32-B187-46EE9812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10C3-7229-46F3-9C68-A75F5323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666A-3B3E-41A4-8AD7-3B2A437B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8B6C-6CDE-4008-827E-2DB2CD68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2BB2-A042-4C7A-8B11-B4BD3FE1ABDA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4712-44F9-4A37-8B5E-0740405542E5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BD8B-0401-4986-9F40-AC49DE445249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C45B-11AC-472D-9DD8-4FF6BD2379E8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esting Tika Format Pars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is is a test document to ensure that we (naming no names) hasn't broken the Tika format parser agai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rangely it seems that if Tika is broken then the GATE document is created without </a:t>
            </a:r>
            <a:r>
              <a:rPr b="0" lang="en-GB" sz="2600" spc="-1" strike="noStrike">
                <a:solidFill>
                  <a:srgbClr val="ff0000"/>
                </a:solidFill>
                <a:latin typeface="Constantia"/>
              </a:rPr>
              <a:t>error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but with no content which is a </a:t>
            </a:r>
            <a:r>
              <a:rPr b="0" i="1" lang="en-GB" sz="2600" spc="-1" strike="noStrike">
                <a:solidFill>
                  <a:srgbClr val="000000"/>
                </a:solidFill>
                <a:latin typeface="Constantia"/>
              </a:rPr>
              <a:t>bi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of a pai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3:24:47Z</dcterms:created>
  <dc:creator>Mark A. Greenwood</dc:creator>
  <dc:description/>
  <dc:language>en-US</dc:language>
  <cp:lastModifiedBy>Mark A. Greenwood</cp:lastModifiedBy>
  <dcterms:modified xsi:type="dcterms:W3CDTF">2012-01-16T13:26:56Z</dcterms:modified>
  <cp:revision>1</cp:revision>
  <dc:subject/>
  <dc:title>Testing Tika Format Parsers</dc:title>
</cp:coreProperties>
</file>